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move the slid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0434-4C59-4898-A2D4-E47188F4D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E323-B4F1-4DCD-90A9-0B8C115AC6D2}" type="slidenum">
              <a:rPr b="0" lang="en-US" sz="1200" spc="-1" strike="noStrike">
                <a:solidFill>
                  <a:srgbClr val="1a1a1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093680" y="679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898200" y="4375080"/>
            <a:ext cx="5016600" cy="40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5715-DCE4-4216-B78F-F8B763FB5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D311-F7BF-4DC6-BF1A-EDE46691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A7895-9AC3-4CF4-9C15-502628E9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783A9-A7B3-4D55-AD9A-CE8490CE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ED2BB-F2FA-495E-A4C2-A0BD13E3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88FFB-3E53-49C8-B2BE-8F406763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D88E9-D8AE-45FD-B3ED-54F8FBD6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81068-13C1-4E1F-A13B-B03108CE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BD206-6586-49A0-B0D2-2A42895A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AD98D-2080-4979-8772-9A0DFFCF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33D59-A2D5-4399-BD9A-011F8B88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6D38B-8C39-4284-A95A-E9067B98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77B9-7E8C-415E-BDB1-AACEC218C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FDF48-8F8D-4D2C-9F1A-A25DC962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A2443-A97E-4C2F-9565-2D050045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73307-468C-4838-BEA1-70B69875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CC9F8-BF72-4CE2-8E01-178F9F26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C5B0C-C72B-4F05-A6B1-1A6A76AA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7C1E7-D9E1-4311-9DC0-63CD2572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3D6E7-E452-48DD-9257-E07590A4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5C712-7445-4F10-9B96-F2DA80C5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869DE-71C3-424C-A1B9-719BFEF9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5D7ED-C932-417A-8F31-7065A039B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49E0-2107-4697-B8BA-C61E97D2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27499-D06F-4600-B0B1-E446A392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54B61-8631-476E-945C-99CDA08E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B462C-2744-4B14-98B5-B26A97D6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8A248-10A4-43BE-9F28-08A9C879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62193-53A3-4DB7-8F0A-29C2634C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152C8-4E5B-4705-8CD2-EDE90484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CFC8E-8E55-4B0A-8343-DD7D7DB0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8583D-0089-4103-913B-11E32F0F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05684-CC22-474C-B1E2-AFCEA701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05DBD-3B6C-48A6-81D5-98D605ED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E77AD-AF7E-4AA8-ABCA-0EED0F57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5E297-C22D-44EB-A960-42D73E51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39759-DAA8-4AC6-9DEA-EAC50D1F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C1A4B-C8B8-45EC-94AF-0D9F53488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5DFCD-65CD-43D7-B447-B7B82B2B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32623-22A3-438F-9F1F-422348CE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ECC8D-F28A-4E93-8910-810E9EB4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B12B4-8859-439B-8FAD-EC7469D8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02393-C0BD-4DAA-950C-BCADF9DE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458D0-8E2A-4F67-A32F-8748F656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4F56D-2BED-4C70-ACBB-C5AB858E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1DE0B-E5F7-4D75-99A5-E8A0B5BF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FB854-236C-4CD9-9D39-E1976824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22116-BA7E-40B1-B1DD-EC0010732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5FCB7-2CD7-41C7-BC77-4E213B9F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C9ECA-3BD7-4391-AAB2-15393C96D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37E89-0B91-4A26-997E-43C16AF2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139CB-7712-4A86-891C-533F828D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01B79-5BEB-4CC9-85E8-FB046D09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5BCD2-D1C0-405C-B356-1F45A5CB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D5CDB-B8AE-4370-9159-3D42925C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50FEF-91A7-4CE7-9BD8-448CCCB0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0E7E8-F767-45AC-85C0-BEE8C01A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617DC-BC31-4D1E-9E95-DF561689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18FC8-421F-4EA4-B228-121E1186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41C9A-D2B7-4C44-BDCA-DDF6ECA6A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784CB-3488-44EC-8904-4D22E1087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D6D72-F129-498B-939A-F7184EDC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C322F-C0C4-4168-98D3-BA531F91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B5BF6-C1A6-4BCC-A705-27D58DF2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F2B2D-CDD3-4030-976A-7E8D848F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6D751-C097-48DD-BA51-C6282A33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36125-4F19-46FA-941C-3AEC3739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5937F-5EAA-48BF-8E46-B2E3EDD1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9E7BE-739F-40B5-A714-2766C8E1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CCBC5-56A6-45B0-BF75-3C68464C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912E9-5FA8-49DA-8048-E7382A7A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88C82-CD2F-48C8-B732-28479784F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24A09-502D-4072-AB3B-434C4C7F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C8727-5A3D-4D6C-BFDA-AA7CE0EB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B55F0-522B-4E4B-B802-ED80B955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5DE44A-9F13-41D0-B81F-CF728725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0454F-68F9-4111-A418-D92DC25A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7991F-F786-454E-8D56-A7281D2D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DB66D-1EB6-4416-9757-A620C84C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D42E14-89A4-484B-906F-B3721E29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7783CD-C0ED-46C7-B6D2-93BF4002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E0D21B-C6A7-44A0-90D8-D05CE8BB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B0DD5-B472-4CAE-A26A-46DAF4DB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87BCA2-E0E3-4D89-A68E-29CBE8C9E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9817E-A0D0-4489-A845-39F9BE00C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018690-66DE-4031-B995-C1191B7D8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EC360F-7B13-4916-8DA4-DBD72F77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1826EF-F547-4D78-8B1E-03D611F6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D03200-64F1-450E-B85E-80B51EAC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314536-091E-4186-A0A3-31547EC0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6CBA94-08FD-4D16-A2FD-219E9A3D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D1CD56-6AB2-4164-89A0-294E3C02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6F98-9E78-4584-AEE1-60CA1ED5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37C186-3724-41C4-AA38-5DD78298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092BC8-CB80-4DD1-A839-87A6F2AE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FACD3E-74EF-4CDB-900E-1399C0E5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20EF2D-7CD9-457B-B23C-8EBF578D9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18976C-2583-4ECD-99AF-5225BA9BC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D42D56-C89F-4038-94F5-CF9DF36F6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5054CD-842D-4F94-9F32-734A4C92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1C2E8E-4F33-420D-A9C6-84091C79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11FD1C-5C5D-4C95-980F-640A72AA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3E8FC0-2AC0-4B8B-B695-99EA4BA5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D99EE2-7A1F-4BD1-A96A-767E43FA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460437-A482-45E0-AB21-C1BD9FB9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AC77DE-785C-4852-8BAC-427426E8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6A2B70-C9C2-46C8-B026-B1CDDAA6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3C2D1D-D693-4F9D-94D4-D08DDCD2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A52B1F-DE9C-4F52-9920-B1ED31980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2B6AD3-44AF-4BD1-9703-0F4CAAED6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29EE-4FEA-47F8-A79C-0FD94E2E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CD8A-F13C-4138-A9C6-AC331CB6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2AB3-D53C-43D4-89B3-0A292525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F7A4-3C42-4A53-944E-C9DA18CB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0360-E7E6-4289-B7E8-E8FFA138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AED8-925E-4BB3-85B0-86A0FF6F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8243-C181-4357-A893-4BAEE803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00C8-41F8-4915-8F94-CF32AF93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081B-02B8-4F36-B7E2-B0362EC9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AAA7-05E9-4D68-BD90-F3C8529E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E759-D048-4F4B-86DD-FE1AFB13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8CFC-6251-4686-8725-D59D3000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FC73-1F2D-4A00-83E8-E5AF954E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423A-A3C8-4004-A197-2E2B97B6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C83E-66EC-4F04-9F55-E85AE91B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6081-C6FA-4A1E-B4F5-9EE0B0B78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7644F-3A17-43FE-8508-D7AC1DB41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8FE7B-7643-433F-AE26-2166679F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0E9D2-CD74-4B28-BB9C-7FFA5E2C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7343E-6CCB-4894-BDDE-1B6BBF63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AACF9-F8B6-402B-8EF7-FDC0D08B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DEA12-7D16-4D15-93D8-B812DEEB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6BC0D-D077-4FED-A614-E3073784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02764-AEAD-4F5B-B53B-4342AC8A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E74BE-3953-4414-9815-AD0025BD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5530-6C28-43F0-8107-976F98C9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1EC6A-023B-48C4-B331-9252D3A9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DFC48-C4A3-4C04-8C9B-4DE3C51C7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39F7A-6CC4-4841-B8F0-BBEFD714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DCDD8-9863-4D86-B3FD-D8B3D033E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4F0F9-F212-4F89-8E5D-713934E5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0FD03-7D7A-4A1C-95D0-41AF8E69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134F6-FEB0-43AB-B559-CDEFC298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34AEE-356F-43D5-A831-A08A7552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B281F-CE34-4457-9EFD-E7D3546C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F3CA4-D78A-4EC2-AE14-1DCCF424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26F3-AF14-4ABD-A661-B1799FFF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7DF32-700E-4726-BB16-DF44C9F8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841BF-D66E-4A7E-8F19-A99A7E99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84232-44CD-4095-B222-BAB93C5A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8CC11-386F-46A2-854B-7ECD6F2D7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A1E46-88F1-4853-8891-6C48E913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C58A0-7646-42F8-B679-D39247FB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494F6-8491-4C9B-96DC-018761FD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7E530-146B-4D74-A719-0EE1E952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B5808-6441-4B1E-973E-73252010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AA69C-6E85-491D-81DC-B57DB2F8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D58D-9CFF-478E-B4F5-A3EF9331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71300-1661-4AD5-B252-3437D58D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8057E-196F-4B0D-A266-DFF3E40D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C51CD-B292-4AE4-8943-EC7F10B8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9C238-3D46-4A20-B873-48E4CF62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AF1E5-2980-4DD5-A0B1-3350BEE7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A37E2-6DF0-4A64-8046-0669475CD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92667-A0D5-4E8F-BA7C-E12E025A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F5DA3-8988-4E4C-A368-31A4A628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965F5-8C3C-4F42-A554-20E4FB0E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68686-5FE4-445F-8800-08334192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hyperlink" Target="http://www.international-pain-school.org/" TargetMode="External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A543-A342-4062-A04A-527096820FF4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ounded Rectangle 5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1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880C-7B7E-4B78-8F44-FAADA3690A61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2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3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4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D9F4-365C-4AC6-9655-350B97DCC189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ounded Rectangle 2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5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26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27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A7DB-CF82-4194-941E-E5FEA9BD0969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FE9A-4338-42EE-B634-BAB7E1CFF031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31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32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33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551D-500B-420D-9557-EFF17224BAF3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34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35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36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BA5E-4C46-434C-8467-6EBC52791D59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37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38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39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DED9-93DF-47F6-9A81-7B1657B06BB3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ounded Rectangle 3"/>
          <p:cNvSpPr/>
          <p:nvPr/>
        </p:nvSpPr>
        <p:spPr>
          <a:xfrm rot="5400000">
            <a:off x="7739280" y="-27720"/>
            <a:ext cx="43524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0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1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2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CD49-1D4B-4E57-BB54-A3EC7F44A47C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Box 1"/>
          <p:cNvSpPr/>
          <p:nvPr/>
        </p:nvSpPr>
        <p:spPr>
          <a:xfrm>
            <a:off x="607680" y="3475440"/>
            <a:ext cx="69015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600" spc="-1" strike="noStrike">
                <a:solidFill>
                  <a:srgbClr val="858585"/>
                </a:solidFill>
                <a:latin typeface="Open Sans Light"/>
              </a:rPr>
              <a:t>International</a:t>
            </a:r>
            <a:r>
              <a:rPr b="0" lang="de-DE" sz="4600" spc="-1" strike="noStrike">
                <a:solidFill>
                  <a:srgbClr val="858585"/>
                </a:solidFill>
                <a:latin typeface="Open Sans"/>
              </a:rPr>
              <a:t> </a:t>
            </a:r>
            <a:r>
              <a:rPr b="0" lang="de-DE" sz="4600" spc="-1" strike="noStrike">
                <a:solidFill>
                  <a:srgbClr val="858585"/>
                </a:solidFill>
                <a:latin typeface="Open Sans Bold"/>
              </a:rPr>
              <a:t>Pain School</a:t>
            </a:r>
            <a:endParaRPr b="0" lang="en-US" sz="46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5" name="Rounded Rectangle 2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6" name="TextBox 3"/>
          <p:cNvSpPr/>
          <p:nvPr/>
        </p:nvSpPr>
        <p:spPr>
          <a:xfrm>
            <a:off x="777960" y="4487760"/>
            <a:ext cx="758664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Open Sans"/>
              </a:rPr>
              <a:t>More lectures and further information can be found on our project website.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400" spc="-1" strike="noStrike" u="sng">
                <a:solidFill>
                  <a:srgbClr val="008bcb"/>
                </a:solidFill>
                <a:uFillTx/>
                <a:latin typeface="Open Sans"/>
                <a:hlinkClick r:id="rId2"/>
              </a:rPr>
              <a:t>www.international-pain-school.org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Open Sans"/>
              </a:rPr>
              <a:t>© 2013 international-pain-school.org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07680" y="3475440"/>
            <a:ext cx="69015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600" spc="-1" strike="noStrike">
                <a:solidFill>
                  <a:srgbClr val="1a1a1a"/>
                </a:solidFill>
                <a:latin typeface="Open Sans Light"/>
              </a:rPr>
              <a:t>International</a:t>
            </a:r>
            <a:r>
              <a:rPr b="0" lang="de-DE" sz="4600" spc="-1" strike="noStrike">
                <a:solidFill>
                  <a:srgbClr val="1a1a1a"/>
                </a:solidFill>
                <a:latin typeface="Open Sans"/>
              </a:rPr>
              <a:t> </a:t>
            </a:r>
            <a:r>
              <a:rPr b="0" lang="de-DE" sz="4600" spc="-1" strike="noStrike">
                <a:solidFill>
                  <a:srgbClr val="333333"/>
                </a:solidFill>
                <a:latin typeface="Open Sans Bold"/>
              </a:rPr>
              <a:t>Pain School</a:t>
            </a:r>
            <a:endParaRPr b="0" lang="en-US" sz="46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ounded Rectangle 4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ounded Rectangle 3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4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5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6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45D6-5A9D-42F4-9802-6B3FADBCADD9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D2A6-3F96-4441-B905-A5855C27CF84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0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1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2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8976-B057-48F2-A316-D4FBB49B9145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8A9C-4012-48C8-A56F-A329D9B74C73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6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7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8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4B84-F583-4915-8DD7-21E8E0812DCB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Integration of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can be a part of symptom management from the time of diagnosi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hen there are no curative options, focus medications and treatments on comfort only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Dosing of pain medication, such as opioids, has no upper limit-especially at then end of lif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reat all aspects of the patient as their greatest suffering may not be from physical pai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Remember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and symptom management only requires attention to what the patient needs, regular re-assessment, and access to medication.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igh-quality palliative care does not require any high-tech materials or equipmen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veryone can provide palliative care to those in need, especially at the end of lif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685800" y="457200"/>
            <a:ext cx="7586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Open Sans Semibold"/>
              </a:rPr>
              <a:t>This talk was originally prepared by: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7" name=""/>
          <p:cNvSpPr/>
          <p:nvPr/>
        </p:nvSpPr>
        <p:spPr>
          <a:xfrm>
            <a:off x="468360" y="1676520"/>
            <a:ext cx="8424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4000"/>
          </a:bodyPr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36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1a1a1a"/>
                </a:solidFill>
                <a:latin typeface="Open Sans"/>
                <a:ea typeface="Times New Roman"/>
              </a:rPr>
              <a:t>Jamie Laubisch MD &amp; Justin Baker MD</a:t>
            </a:r>
            <a:endParaRPr b="0" lang="en-US" sz="3600" spc="-1" strike="noStrike">
              <a:solidFill>
                <a:srgbClr val="1a1a1a"/>
              </a:solidFill>
              <a:latin typeface="Calibri"/>
            </a:endParaRPr>
          </a:p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 </a:t>
            </a:r>
            <a:endParaRPr b="0" lang="en-US" sz="2400" spc="-1" strike="noStrike">
              <a:solidFill>
                <a:srgbClr val="1a1a1a"/>
              </a:solidFill>
              <a:latin typeface="Calibri"/>
            </a:endParaRPr>
          </a:p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Memphis, USA</a:t>
            </a:r>
            <a:endParaRPr b="0" lang="en-US" sz="24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8"/>
          <p:cNvSpPr/>
          <p:nvPr/>
        </p:nvSpPr>
        <p:spPr>
          <a:xfrm>
            <a:off x="611280" y="90792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Calibri"/>
              </a:rPr>
              <a:t>Talks in the International Pain School include the following: 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9" name="Rectangle 10"/>
          <p:cNvSpPr/>
          <p:nvPr/>
        </p:nvSpPr>
        <p:spPr>
          <a:xfrm>
            <a:off x="609480" y="3808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0" name="Text Box 8"/>
          <p:cNvSpPr/>
          <p:nvPr/>
        </p:nvSpPr>
        <p:spPr>
          <a:xfrm>
            <a:off x="611280" y="90792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Calibri"/>
              </a:rPr>
              <a:t>Talks in the International Pain School include the following: 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1" name="Rectangle 10"/>
          <p:cNvSpPr/>
          <p:nvPr/>
        </p:nvSpPr>
        <p:spPr>
          <a:xfrm>
            <a:off x="609480" y="3808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graphicFrame>
        <p:nvGraphicFramePr>
          <p:cNvPr id="832" name=""/>
          <p:cNvGraphicFramePr/>
          <p:nvPr/>
        </p:nvGraphicFramePr>
        <p:xfrm>
          <a:off x="684360" y="1266840"/>
          <a:ext cx="7696080" cy="4983120"/>
        </p:xfrm>
        <a:graphic>
          <a:graphicData uri="http://schemas.openxmlformats.org/drawingml/2006/table">
            <a:tbl>
              <a:tblPr/>
              <a:tblGrid>
                <a:gridCol w="4260600"/>
                <a:gridCol w="3435480"/>
              </a:tblGrid>
              <a:tr h="38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ysiology and pathophysiology of pai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Nilesh Patel, PhD, Keny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essment of pain &amp;  taking a pain history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Yohannes Woubished, M.D, Addis Ababa, Ethiopi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nical pharmacology of analgesic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non-pharmacological treatment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Ramani Vijayan, M.D. Kuala Lumpur, Malaysi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toperative –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Dominique Fletcher, M.D, Garches &amp; Xavier Lassalle, RN, MSF, Paris, France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toperative– high treatment technology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Narinder Rawal, M.D. PhD, FRCA(Hon), Orebro, Swede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Cancer pain–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Barbara Kleinmann, MD, Freiburg, Germany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cer pain– high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Jamie Laubisch MD, Justin Baker MD, Doralina Anghelescu MD, Memphis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lliative Care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Jamie Laubisch MD, Justin Baker MD, Memphis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ropathic pain -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Maija Haanpää, MD, Helsinki &amp; Aki Hietaharju, Tampere, Finland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ropathic pain – high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Maija Haanpää, M.D., Helsinki &amp; Aki Hietaharju, M.D.,  Tampere, Finland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ychological aspects of managing pai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Etleva Gjoni, Germany 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ecial Management Challenge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Debra Gordon, RN, DNP, FAAN, Seattle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2"/>
          <p:cNvSpPr/>
          <p:nvPr/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Open Sans Semibold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pic>
        <p:nvPicPr>
          <p:cNvPr id="834" name="Picture 6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7954920" cy="332568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4"/>
          <p:cNvSpPr/>
          <p:nvPr/>
        </p:nvSpPr>
        <p:spPr>
          <a:xfrm>
            <a:off x="919440" y="1981080"/>
            <a:ext cx="50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  <a:ea typeface="Arial"/>
              </a:rPr>
              <a:t>The project is supported by these organizations: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2916000" y="4941360"/>
            <a:ext cx="533700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3399ff"/>
                </a:solidFill>
                <a:latin typeface="Open Sans"/>
              </a:rPr>
              <a:t>Type in the name of your institution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algn="r"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476000" y="4149720"/>
            <a:ext cx="6800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800" spc="-1" strike="noStrike">
                <a:solidFill>
                  <a:srgbClr val="3399ff"/>
                </a:solidFill>
                <a:latin typeface="Open Sans"/>
              </a:rPr>
              <a:t>Type in your name</a:t>
            </a:r>
            <a:endParaRPr b="0" lang="en-US" sz="2800" spc="-1" strike="noStrike">
              <a:solidFill>
                <a:srgbClr val="1a1a1a"/>
              </a:solidFill>
              <a:latin typeface="Open Sans"/>
            </a:endParaRPr>
          </a:p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8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1476000" y="3284280"/>
            <a:ext cx="680076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4600" spc="-1" strike="noStrike">
                <a:solidFill>
                  <a:srgbClr val="1a1a1a"/>
                </a:solidFill>
                <a:latin typeface="Open Sans"/>
              </a:rPr>
              <a:t>Palliative Care</a:t>
            </a:r>
            <a:endParaRPr b="0" lang="en-US" sz="46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pic>
        <p:nvPicPr>
          <p:cNvPr id="797" name="Picture 6" descr="http://1.bp.blogspot.com/_f2I8sVbYok0/TCAm4wO8HrI/AAAAAAAACCQ/w-9D41FN3OQ/s1600/holding+hands.jpg"/>
          <p:cNvPicPr/>
          <p:nvPr/>
        </p:nvPicPr>
        <p:blipFill>
          <a:blip r:embed="rId1"/>
          <a:srcRect l="5915" t="5843" r="6089" b="6326"/>
          <a:stretch/>
        </p:blipFill>
        <p:spPr>
          <a:xfrm>
            <a:off x="-66600" y="0"/>
            <a:ext cx="9210600" cy="6875640"/>
          </a:xfrm>
          <a:prstGeom prst="rect">
            <a:avLst/>
          </a:prstGeom>
          <a:ln w="0">
            <a:noFill/>
          </a:ln>
        </p:spPr>
      </p:pic>
      <p:sp>
        <p:nvSpPr>
          <p:cNvPr id="798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at is Palliative Care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777960" y="2301840"/>
            <a:ext cx="75866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ctive total care of the patient…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egins at diagnosis, and continues regardless of whether or not a patient receives treatment directed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t the diseas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ealth providers must evaluate and alleviate a child's physical, psychological, and social distres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Requires a broad interdisciplinary approach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777960" y="1368000"/>
            <a:ext cx="758664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Open Sans Semibold"/>
              </a:rPr>
              <a:t>WHO definition of palliative care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at is Palliative Care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“</a:t>
            </a: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he art and science of patient and family-centered care aimed at attending to suffering, promoting healing and improving quality of life</a:t>
            </a: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”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he goal is to add life to the patient</a:t>
            </a: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’</a:t>
            </a: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 years, not simply years to the their life …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y is it so important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762120" y="114300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e cannot cure or save everyone and we will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ll die someday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hen resources are limited or unavailable,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very patient should have the benefit of symptom management, especially at the end of life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Opioids should be available for all patients to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elp alleviate pain and suffering, although not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currently the case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and symptom management does not require high-tech medicine, but may be achieved anywhere with education and dedication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Aspects of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rovide comf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Foster interpersonal relationship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motion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oci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piritu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ereavement car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Totality of Personhood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777960" y="5867280"/>
            <a:ext cx="758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algn="ctr"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800" spc="-1" strike="noStrike">
                <a:solidFill>
                  <a:srgbClr val="1a1a1a"/>
                </a:solidFill>
                <a:latin typeface="Open Sans"/>
              </a:rPr>
              <a:t>Goal: to attend to suffering, of any kind, and improve quality of life</a:t>
            </a:r>
            <a:endParaRPr b="0" lang="en-US" sz="18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10" name="Oval 4"/>
          <p:cNvSpPr/>
          <p:nvPr/>
        </p:nvSpPr>
        <p:spPr>
          <a:xfrm>
            <a:off x="3352680" y="3352680"/>
            <a:ext cx="2210040" cy="2210040"/>
          </a:xfrm>
          <a:prstGeom prst="ellipse">
            <a:avLst/>
          </a:prstGeom>
          <a:solidFill>
            <a:srgbClr val="df006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1" name="Oval 3"/>
          <p:cNvSpPr/>
          <p:nvPr/>
        </p:nvSpPr>
        <p:spPr>
          <a:xfrm>
            <a:off x="2514600" y="1905120"/>
            <a:ext cx="2209680" cy="2209680"/>
          </a:xfrm>
          <a:prstGeom prst="ellipse">
            <a:avLst/>
          </a:prstGeom>
          <a:solidFill>
            <a:srgbClr val="604a7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2" name="Oval 5"/>
          <p:cNvSpPr/>
          <p:nvPr/>
        </p:nvSpPr>
        <p:spPr>
          <a:xfrm>
            <a:off x="4191120" y="1905120"/>
            <a:ext cx="2209680" cy="2209680"/>
          </a:xfrm>
          <a:prstGeom prst="ellipse">
            <a:avLst/>
          </a:prstGeom>
          <a:solidFill>
            <a:srgbClr val="008bc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3" name="Text Box 6"/>
          <p:cNvSpPr/>
          <p:nvPr/>
        </p:nvSpPr>
        <p:spPr>
          <a:xfrm>
            <a:off x="990720" y="1721160"/>
            <a:ext cx="152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Religion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4" name="Text Box 7"/>
          <p:cNvSpPr/>
          <p:nvPr/>
        </p:nvSpPr>
        <p:spPr>
          <a:xfrm>
            <a:off x="990720" y="515016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ociety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5" name="Text Box 8"/>
          <p:cNvSpPr/>
          <p:nvPr/>
        </p:nvSpPr>
        <p:spPr>
          <a:xfrm>
            <a:off x="6553080" y="172368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Culture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6" name="Text Box 9"/>
          <p:cNvSpPr/>
          <p:nvPr/>
        </p:nvSpPr>
        <p:spPr>
          <a:xfrm>
            <a:off x="6248520" y="5150160"/>
            <a:ext cx="198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ducation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7" name="Text Box 10"/>
          <p:cNvSpPr/>
          <p:nvPr/>
        </p:nvSpPr>
        <p:spPr>
          <a:xfrm>
            <a:off x="3048120" y="279540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ody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8" name="Text Box 11"/>
          <p:cNvSpPr/>
          <p:nvPr/>
        </p:nvSpPr>
        <p:spPr>
          <a:xfrm>
            <a:off x="4686480" y="2795400"/>
            <a:ext cx="1218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Mind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9" name="Text Box 12"/>
          <p:cNvSpPr/>
          <p:nvPr/>
        </p:nvSpPr>
        <p:spPr>
          <a:xfrm>
            <a:off x="3924360" y="4242960"/>
            <a:ext cx="106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pirit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Barriers to High Quality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ersonal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motionally difficult, taboos, resisting chang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ystem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ccess to services, reimbursement, fragmentation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Quality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Deficient education, lack of outcomes research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echnical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Lack of appropriate evaluation tool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21:01:03Z</dcterms:created>
  <dc:creator>SJCRH</dc:creator>
  <dc:description/>
  <dc:language>en-US</dc:language>
  <cp:lastModifiedBy>ruth</cp:lastModifiedBy>
  <dcterms:modified xsi:type="dcterms:W3CDTF">2015-06-15T09:50:54Z</dcterms:modified>
  <cp:revision>37</cp:revision>
  <dc:subject/>
  <dc:title>Palliative Care</dc:title>
</cp:coreProperties>
</file>